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D46-7E24-4920-A546-FD809BFC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918-DED4-4BAA-A2D4-9F58F6E6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4E1-B4D0-4D8E-B39D-F44F1273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91D-98C8-41D5-8C94-C1C0CC92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CF87-269E-4590-9635-8803F9BC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FFC3-EB18-4169-BB48-FAC731D2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C554-22AD-4672-948D-05B2F852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ACED-79B6-401B-AC3B-FC66B152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6659-F7CB-4970-A075-FDFA7B5C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0DF4-9F6C-4FF1-B224-287A4D3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AAA0-E7B7-436E-A15F-68D94A2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540-E168-4110-9846-930CBB6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456E-9ECA-4843-A00F-19DB17E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E205-D2E3-4BFC-8EA4-D6C2C04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B903-0E19-4291-A372-69DE6004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4734-C46A-4E1D-9F43-569CEC73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7B17-C0E6-43BB-89CA-8D7A613F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497E-6D78-4084-BBCE-061A3339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5EB5-8366-44BC-8C74-D12A23D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5D73-BEF4-4776-8DA8-638F0484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4A55-7777-4819-8982-27AA3A08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EAC5-A57D-431C-9B71-2194F26A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BCC-44DD-4B90-8273-BD723E87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D546-2E5A-483A-9054-E4F24D83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B87C-F935-4174-8D60-BB43665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80289-CE37-440A-98FB-01BF37A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60E5-870B-4ABD-A807-B0322BBD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15655-4F18-41E4-B7DA-564BCB5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B351-CC58-4D62-8771-B36A47C5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6F16-3170-4ED0-AE01-EB41C847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C759-9491-4927-A9E3-BE4F33F6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9142-5CCB-4BF8-875C-AD241467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C9E6-7DF5-48A1-B428-C1A11A14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2F8-A865-40E9-8894-FD34D009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B215-62D2-418F-8726-24C9F14E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BA9E-622A-4127-A353-6F9A55D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45A5D-F56F-4A3D-863D-625FDF6D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2DEE-6D93-4FB4-B6B3-D6988008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2C54-ECEE-4951-903E-037F732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7F34-EE9F-461A-85E5-2C98AAA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8A15-B22E-4BF7-A670-C849B31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7E01-55AF-41D3-83F2-0DDDAF41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0099-A83D-43FF-92D2-C9D0623C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51EB-A1B1-4597-89A9-8AE8E79F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DC8-C7BA-4CD8-BFB6-7B5C1FED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91BEE-786D-4C96-B4D2-086921FB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B70D-038F-4175-A9F7-53822612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0989-B705-4DF2-B8F5-8A42996B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D06C1-58A8-4D39-B4D1-B3B795E2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57F4F-330F-4853-AD97-8D93D08C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C252-7445-4EE2-90C5-81895B52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1015-AB0D-4BE8-9DA8-AF6906E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957D-DE30-4A7F-987C-3FFBA53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FADB-1230-49DE-B5AD-14BF8207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2B994-1B0E-40AE-BD3D-F4F90167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F7A-4A8A-48E5-9386-B6C5D814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25269-F19A-4E0A-BCC9-E45513A8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BC60-0AF6-4DDF-A1BA-82002BE2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1AAA-15B3-4E57-8F46-0B07C10D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ACC02-9D26-4A04-B745-92E0E126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1D08-0934-45D9-8920-EDFBCA6C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E4D2C-107B-4020-A372-927191BE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D84C1-35D4-4F6D-9275-61A2BABE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47469-666D-4406-9D56-9B2000A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5DC50-6753-46A7-91FD-9F2E9D7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BF9DD-1087-4D39-95E5-F914A8C7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183-0878-4F5B-B795-57A2BDF2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5674-EF3D-4594-A70F-0956EC7A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5ADD-C6E5-498A-A509-4D1448D5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3C37A-8ECB-4235-B721-647B876F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5102-BD2E-411F-BB10-7492B646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65E5-D5EF-443C-95E8-A2170727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0C17-FC2C-4C26-B95C-D93D4E4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1B96E-9F89-48C7-80C4-C54CC3AF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D5B8-8432-410C-BFD3-22216F80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912A-F3E9-4C98-A2F9-CC54025A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C4E7-CDF2-40A4-A2C3-5145566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1FA-C688-4A70-9FBA-FC2B1F2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F57C0-14C4-4881-9865-8BAEDDC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A2A23-07CC-4E44-8DC3-4D142B2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BF5C-4715-4050-A958-CAC2666C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E6AB-6371-469D-952C-2432DFEF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5CA0-7628-4B82-A64F-9C75D1A3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003E6-32B7-403A-84A9-0E8AEE06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C962-B28B-4233-BA00-ADF7EFAF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8E300-B994-42DB-A3CF-61510871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BAD0E-9D5E-4988-9B28-4F22F160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9EB16-547E-4D76-8AA6-8CD2BADD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9C6-C8A5-4281-B2F4-FB3DFFD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9A9D3-1A1E-41A7-8378-EB33EAF4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88126-E33F-49F9-A1FB-9C755D24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3681-2C01-4549-B22F-7DDED1C8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DFDF5-40C3-4F4E-9376-CE373914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DFF9-A20D-40B6-830D-2F808F2A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C7AA-30A8-41B6-B18F-23FD1054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BCA3-9AD3-48F3-8C29-EA5C9E7E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D60-45F4-4E3E-892D-97403A1ACC6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933-2A96-49FE-A4A6-6E8F044AFAB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90F2-20B7-4713-9BDA-C7B7351AFBA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9914-2E11-4F4F-A745-7BFE56F3F3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B957-58DE-4F37-812B-51A3C0E94BA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FE7D-DEF3-465C-ACFC-BD872B5C685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B9AB-CD88-40F7-9E6E-954CE0DADC3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52FC-0E65-4623-BA29-DB0EB05BE6F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f Vicki had won the lottery, she would have retir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we use the past unreal conditiona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 both parts of the sentence describ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would have in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sult claus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ean regr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If Amy had received treatment,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he wouldn’t have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ould ha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 in the result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could have in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sult claus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ean possibi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If her parents had believed in medicine,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my could have liv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uld ha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 in the result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might have in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sult claus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ean uncertainty about the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If Norman hadn’t used laugh therap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he might have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ight ha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 in the result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st unreal conditionals have two clauses ( a clause is a groups of words that have a subject + ver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f cla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sult clause (main clau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(if clause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y had received treatment,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(result clause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might not have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clauses are found in a past unreal conditional state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a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 we call the clauses in a part unreal conditional state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Lucida Sans Unicode"/>
              </a:rPr>
              <a:t>If Clause (unreal condition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f + subject + past perfect</a:t>
            </a: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Result Clause (what would have happened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bject + would (not) have + past participl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uld (not) hav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ght (not) hav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Lucida Sans Unicode"/>
              </a:rPr>
              <a:t>(unreal condition)       </a:t>
            </a: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(what would have happened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f he hadn’t used laugh therapy, Norman would not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ve recovered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+ past participle of ver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past participle  verb + ed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had talk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past participle  examp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g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be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h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k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t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we form the if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we form the past perfect for regular verb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we form the past perfect for irregular verb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three ways can we form the result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Result Clause (what would have happened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bject + would (not) have + past participl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uld (not) hav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ght (not) hav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Lucida Sans Unicode"/>
              </a:rPr>
              <a:t>If Clause (unreal condition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f + subject + past perfect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(what would have happened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500" spc="-1" strike="noStrike">
                <a:solidFill>
                  <a:srgbClr val="00b0f0"/>
                </a:solidFill>
                <a:latin typeface="Lucida Sans Unicode"/>
              </a:rPr>
              <a:t>(unreal condition)  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rman would not have recovered if he hadn’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used laugh therapy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the if clause tell u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the result clause tell u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the if clause and the result clause in this sente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might have passed the quiz if I had stu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about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past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real, untrue, or imagined conditions and their resul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parts of the sentence describe events that are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posi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what happe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onditional statement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rman would not have recovered if He hadn’t used laugh therap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hat really happened?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recovered. He used laugh therap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23:07:27Z</dcterms:created>
  <dc:creator> </dc:creator>
  <dc:description/>
  <dc:language>en-US</dc:language>
  <cp:lastModifiedBy> </cp:lastModifiedBy>
  <dcterms:modified xsi:type="dcterms:W3CDTF">2011-02-13T00:49:52Z</dcterms:modified>
  <cp:revision>4</cp:revision>
  <dc:subject/>
  <dc:title>Past Unreal Conditionals</dc:title>
</cp:coreProperties>
</file>